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6C0-2AE7-4D9C-B467-5190996F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DAC-A413-4775-9635-F33649E8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020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9DA-ABC8-4608-B97E-86A4EDFC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732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496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732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496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540-48AA-4771-8244-BA64C495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0A67-9EE5-4008-90CA-23C9918B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1A1A-877D-4F05-AF65-841BF24E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35E2-8B6D-43E7-867A-1372A902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9CC0-CC78-4E41-9096-FB8AFB40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1541-6E62-4E9A-B4BF-9C824590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F0D1-C608-473E-8289-B4C3C1C0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320C-4FEC-4D43-BF1E-F3594A2F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45F-0DFC-47D9-8D61-C8BE2778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020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19A4-C95A-4952-9CC2-AA649D3E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D3A7-5C16-4248-9373-3745DACB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2D34-D918-47CD-8878-1799B494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020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F0DF-105E-4982-81AD-1D62437C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4732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496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4732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7496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81CB-B1B6-42F6-804E-58080808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B5A-020C-4EA3-BC4F-6EE1C097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26B-9FB3-489A-8205-B2AD2973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180-6923-403A-A42F-029C6285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39A-013F-4209-8FF8-4EB03060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2DD-41D7-44F1-B0B2-71736E6B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020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74E-62B2-4E84-9E5A-D6D088C9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C35-6A13-42D4-8655-6287132D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540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ECEB-F81F-45F5-82F2-12F8BB842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94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9540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2344-A98F-4FCC-85EC-C11A2109E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DICAL ACADE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1640" y="2286000"/>
            <a:ext cx="44197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dition of excellence since 1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we off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health science progr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l Skills and Services (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Science 1 (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Science 2 (1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Responder (1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ive Internship (1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1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curricu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nerships that allow real life experiences in health care at BFMC and NSB and Edgewater fire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0" descr="Dr. Cuda.JPG"/>
          <p:cNvPicPr/>
          <p:nvPr/>
        </p:nvPicPr>
        <p:blipFill>
          <a:blip r:embed="rId1"/>
          <a:stretch/>
        </p:blipFill>
        <p:spPr>
          <a:xfrm>
            <a:off x="6553080" y="152280"/>
            <a:ext cx="2590920" cy="335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hosa_logo_1.JPG"/>
          <p:cNvPicPr/>
          <p:nvPr/>
        </p:nvPicPr>
        <p:blipFill>
          <a:blip r:embed="rId2"/>
          <a:stretch/>
        </p:blipFill>
        <p:spPr>
          <a:xfrm>
            <a:off x="6019920" y="5562720"/>
            <a:ext cx="1447560" cy="912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hosa_logo_2.gif"/>
          <p:cNvPicPr/>
          <p:nvPr/>
        </p:nvPicPr>
        <p:blipFill>
          <a:blip r:embed="rId3"/>
          <a:stretch/>
        </p:blipFill>
        <p:spPr>
          <a:xfrm>
            <a:off x="7620120" y="5181480"/>
            <a:ext cx="1371600" cy="14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kind of students do we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kind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s/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ers of all clubs, sports on cam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, Showdolls, drama, art, SGA, class offi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DSC03566.JPG"/>
          <p:cNvPicPr/>
          <p:nvPr/>
        </p:nvPicPr>
        <p:blipFill>
          <a:blip r:embed="rId1"/>
          <a:stretch/>
        </p:blipFill>
        <p:spPr>
          <a:xfrm>
            <a:off x="5410080" y="1371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DSC02936.JPG"/>
          <p:cNvPicPr/>
          <p:nvPr/>
        </p:nvPicPr>
        <p:blipFill>
          <a:blip r:embed="rId2"/>
          <a:stretch/>
        </p:blipFill>
        <p:spPr>
          <a:xfrm>
            <a:off x="5715000" y="44956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SC02915.JPG"/>
          <p:cNvPicPr/>
          <p:nvPr/>
        </p:nvPicPr>
        <p:blipFill>
          <a:blip r:embed="rId3"/>
          <a:stretch/>
        </p:blipFill>
        <p:spPr>
          <a:xfrm>
            <a:off x="2844720" y="4648320"/>
            <a:ext cx="2718000" cy="203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93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ge field t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health career related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dowing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t Fish Medical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SB and Edgewater Firefighter/Paramed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intern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l Exam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Reserve Cor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est spea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rterly A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DSC03500.JPG"/>
          <p:cNvPicPr/>
          <p:nvPr/>
        </p:nvPicPr>
        <p:blipFill>
          <a:blip r:embed="rId1"/>
          <a:stretch/>
        </p:blipFill>
        <p:spPr>
          <a:xfrm>
            <a:off x="6781680" y="1522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DSC03505.JPG"/>
          <p:cNvPicPr/>
          <p:nvPr/>
        </p:nvPicPr>
        <p:blipFill>
          <a:blip r:embed="rId2"/>
          <a:stretch/>
        </p:blipFill>
        <p:spPr>
          <a:xfrm>
            <a:off x="4673520" y="2286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DSC03477.JPG"/>
          <p:cNvPicPr/>
          <p:nvPr/>
        </p:nvPicPr>
        <p:blipFill>
          <a:blip r:embed="rId3"/>
          <a:stretch/>
        </p:blipFill>
        <p:spPr>
          <a:xfrm>
            <a:off x="6629400" y="23623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dical Reserve Corps Logo"/>
          <p:cNvPicPr/>
          <p:nvPr/>
        </p:nvPicPr>
        <p:blipFill>
          <a:blip r:embed="rId4"/>
          <a:stretch/>
        </p:blipFill>
        <p:spPr>
          <a:xfrm>
            <a:off x="6629400" y="388620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022.JPG"/>
          <p:cNvPicPr/>
          <p:nvPr/>
        </p:nvPicPr>
        <p:blipFill>
          <a:blip r:embed="rId5"/>
          <a:stretch/>
        </p:blipFill>
        <p:spPr>
          <a:xfrm>
            <a:off x="4800600" y="5105520"/>
            <a:ext cx="2031840" cy="1523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100_0832.JPG"/>
          <p:cNvPicPr/>
          <p:nvPr/>
        </p:nvPicPr>
        <p:blipFill>
          <a:blip r:embed="rId6"/>
          <a:stretch/>
        </p:blipFill>
        <p:spPr>
          <a:xfrm>
            <a:off x="6934320" y="5334120"/>
            <a:ext cx="1706400" cy="127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6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Occupations Students of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curricular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, Regional, State and National leadership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onal, State and National compet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ve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3" descr="DSC03449.JPG"/>
          <p:cNvPicPr/>
          <p:nvPr/>
        </p:nvPicPr>
        <p:blipFill>
          <a:blip r:embed="rId1"/>
          <a:stretch/>
        </p:blipFill>
        <p:spPr>
          <a:xfrm>
            <a:off x="6400800" y="4648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032.JPG"/>
          <p:cNvPicPr/>
          <p:nvPr/>
        </p:nvPicPr>
        <p:blipFill>
          <a:blip r:embed="rId2"/>
          <a:stretch/>
        </p:blipFill>
        <p:spPr>
          <a:xfrm>
            <a:off x="0" y="4648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00_0819.JPG"/>
          <p:cNvPicPr/>
          <p:nvPr/>
        </p:nvPicPr>
        <p:blipFill>
          <a:blip r:embed="rId3"/>
          <a:stretch/>
        </p:blipFill>
        <p:spPr>
          <a:xfrm>
            <a:off x="3200400" y="457200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1371240"/>
            <a:ext cx="777240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9:42:40Z</dcterms:created>
  <dc:creator>jkheifne</dc:creator>
  <dc:description/>
  <dc:language>en-US</dc:language>
  <cp:lastModifiedBy>jkheifne</cp:lastModifiedBy>
  <dcterms:modified xsi:type="dcterms:W3CDTF">2010-12-06T17:54:13Z</dcterms:modified>
  <cp:revision>16</cp:revision>
  <dc:subject/>
  <dc:title>THE MEDICAL ACADEMY</dc:title>
</cp:coreProperties>
</file>